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CC34-5212-4D0C-A8A1-96368C8C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0D4-0527-42B5-A8E0-E7345FF1E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78CD-EFC7-4643-982D-89049F754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5A0-3C9D-44C2-B367-1A649CA8E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600-944E-487A-B083-E68B8B6E1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3285-E9C5-4A1A-A3B2-A820A0494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10E-7A29-4A66-8C84-7137B1580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756A-D3E6-4CAE-ACF5-C79EE62F2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5AE-730A-496E-AD2F-A7A39A448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F41B-FAAF-4DF5-8176-4B3DC8610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F1B-76B3-4C8D-BEB6-8C9C4BCCB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996-DDB0-4196-AA8B-45D4CFD9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E53-5B81-487B-B367-C3FD290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34C-1FB7-402C-BABD-3BCC090B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304-D3C1-4793-9B70-FD34D9E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F6A-9F04-4C82-ACD6-69E79C7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28D8-4050-4E87-A53E-B855F192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BC1-7C60-44F7-B760-A6B69A9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17E2-DA62-44F2-8827-81F4824F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A651-5132-4066-9A54-43CFA2D0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093-94E0-4F87-8860-FFEA2A7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C82-45A3-406C-BBCB-73586058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7B03-0C03-4AB1-B480-699851E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FF73-4FA9-4045-85BB-1404800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D25B-4509-4155-8A24-660F130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C2B1-D573-4C76-B47F-0A8CEEF4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FE3E-113E-47EA-9F31-F8DA45A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1A2-F94A-4C63-AB2E-FFE6A305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138-757B-4B3C-90FA-2C270D9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30A-327E-4EEF-B999-0FC6ECCB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EC5-16D5-41C2-A439-8BB64A2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521-98DB-43E0-B514-8661B46A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65F-0859-42D1-B103-8D4F7E2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F00-5819-49E9-BCC0-36A3231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EAE-D7F2-469B-9765-A9EE240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6EE8-B762-4CD6-AFC7-9F1451D374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0449-FBC4-4587-984A-7CAD5483B6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08992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ronouns pronoun agreement grammar Grammar Bytes! Robin L. Simmons</cp:keywords>
  <dc:language>en-US</dc:language>
  <cp:lastModifiedBy>RSimmons</cp:lastModifiedBy>
  <dcterms:modified xsi:type="dcterms:W3CDTF">2010-01-04T18:30:12Z</dcterms:modified>
  <cp:revision>302</cp:revision>
  <dc:subject/>
  <dc:title>Pronoun Agreement</dc:title>
</cp:coreProperties>
</file>